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58.png" ContentType="image/png"/>
  <Override PartName="/ppt/media/image56.jpeg" ContentType="image/jpeg"/>
  <Override PartName="/ppt/media/image53.png" ContentType="image/png"/>
  <Override PartName="/ppt/media/image55.jpeg" ContentType="image/jpeg"/>
  <Override PartName="/ppt/media/image43.png" ContentType="image/png"/>
  <Override PartName="/ppt/media/image51.png" ContentType="image/png"/>
  <Override PartName="/ppt/media/image49.jpeg" ContentType="image/jpeg"/>
  <Override PartName="/ppt/media/image34.png" ContentType="image/png"/>
  <Override PartName="/ppt/media/image4.png" ContentType="image/png"/>
  <Override PartName="/ppt/media/image32.png" ContentType="image/png"/>
  <Override PartName="/ppt/media/image25.jpeg" ContentType="image/jpeg"/>
  <Override PartName="/ppt/media/image30.png" ContentType="image/png"/>
  <Override PartName="/ppt/media/image37.jpeg" ContentType="image/jpeg"/>
  <Override PartName="/ppt/media/image20.png" ContentType="image/png"/>
  <Override PartName="/ppt/media/image11.jpeg" ContentType="image/jpeg"/>
  <Override PartName="/ppt/media/image24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66.png" ContentType="image/png"/>
  <Override PartName="/ppt/media/image64.jpeg" ContentType="image/jpeg"/>
  <Override PartName="/ppt/media/image28.png" ContentType="image/png"/>
  <Override PartName="/ppt/media/image29.jpeg" ContentType="image/jpeg"/>
  <Override PartName="/ppt/media/image62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6.jpeg" ContentType="image/jpeg"/>
  <Override PartName="/ppt/media/image61.jpeg" ContentType="image/jpeg"/>
  <Override PartName="/ppt/media/image26.png" ContentType="image/png"/>
  <Override PartName="/ppt/media/image12.png" ContentType="image/png"/>
  <Override PartName="/ppt/media/image19.jpeg" ContentType="image/jpeg"/>
  <Override PartName="/ppt/media/image42.jpeg" ContentType="image/jpeg"/>
  <Override PartName="/ppt/media/image65.png" ContentType="image/png"/>
  <Override PartName="/ppt/media/image21.jpeg" ContentType="image/jpeg"/>
  <Override PartName="/ppt/media/image2.png" ContentType="image/png"/>
  <Override PartName="/ppt/media/image14.png" ContentType="image/png"/>
  <Override PartName="/ppt/media/image27.jpeg" ContentType="image/jpeg"/>
  <Override PartName="/ppt/media/image50.jpeg" ContentType="image/jpeg"/>
  <Override PartName="/ppt/media/image10.png" ContentType="image/png"/>
  <Override PartName="/ppt/media/image35.jpeg" ContentType="image/jpeg"/>
  <Override PartName="/ppt/media/image23.jpeg" ContentType="image/jpeg"/>
  <Override PartName="/ppt/media/image8.png" ContentType="image/png"/>
  <Override PartName="/ppt/media/image39.jpeg" ContentType="image/jpeg"/>
  <Override PartName="/ppt/media/image17.png" ContentType="image/png"/>
  <Override PartName="/ppt/media/image5.png" ContentType="image/png"/>
  <Override PartName="/ppt/media/image48.png" ContentType="image/png"/>
  <Override PartName="/ppt/media/image52.jpeg" ContentType="image/jpeg"/>
  <Override PartName="/ppt/media/image1.png" ContentType="image/png"/>
  <Override PartName="/ppt/media/image13.png" ContentType="image/png"/>
  <Override PartName="/ppt/media/image54.jpeg" ContentType="image/jpeg"/>
  <Override PartName="/ppt/media/image7.png" ContentType="image/png"/>
  <Override PartName="/ppt/media/image31.jpeg" ContentType="image/jpeg"/>
  <Override PartName="/ppt/media/image33.jpeg" ContentType="image/jpeg"/>
  <Override PartName="/ppt/media/image9.jpeg" ContentType="image/jpeg"/>
  <Override PartName="/ppt/media/image36.png" ContentType="image/png"/>
  <Override PartName="/ppt/media/image40.jpeg" ContentType="image/jpeg"/>
  <Override PartName="/ppt/media/image3.jpeg" ContentType="image/jpeg"/>
  <Override PartName="/ppt/media/image41.png" ContentType="image/png"/>
  <Override PartName="/ppt/media/image63.png" ContentType="image/png"/>
  <Override PartName="/ppt/media/image57.jpeg" ContentType="image/jpeg"/>
  <Override PartName="/ppt/media/image38.png" ContentType="image/png"/>
  <Override PartName="/ppt/media/image44.jpeg" ContentType="image/jpeg"/>
  <Override PartName="/ppt/media/image45.png" ContentType="image/png"/>
  <Override PartName="/ppt/media/image46.png" ContentType="image/png"/>
  <Override PartName="/ppt/media/image4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9F41-2CD9-4121-B1AC-ACD0EFB8D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4165-FA94-490E-9652-77203A765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3604-9CCC-4E0E-AB2E-B05CD0710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325F-048E-4B23-8BFB-3B37A4724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75408-D1C9-457F-90E0-050734FF1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1F00F-C690-4240-955E-ED98D459D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4D543-B59A-4A76-BAC9-169D6C50D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BB07B-957B-4AE9-A4CC-77CB257EF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9486D-3B8B-4703-B3E5-40E4C3BCC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312A5-F1C1-4D80-85A7-655185029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234CB-AE1A-4981-B31C-D5DBD81B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274D-9C25-4246-A237-2029CF7C3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CDE80-08F9-42C0-830A-C2503B2F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9C4D2-4E23-4E0D-AEDB-3B7FC27D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9ECB3-6448-499E-8151-06A661014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719A7-C926-4D43-8C4C-0544C333A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1CB29-CF16-482A-ABD5-35EF98DC1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116A1-6FD8-4AE5-8E50-815DB6B78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194E7-0782-4B0B-80BD-E894CCF19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6DA01-BF01-4B6B-B403-B0DC8B5E0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1F994-C3ED-401B-A327-CC5CDBCD2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5157B-A6D5-4E97-A098-205523E9E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266A-6CBF-4D96-ADB9-C82F1F26F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8395D-4DAE-4466-94D9-5A59B1E3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E5D91-A059-44AA-BDE9-E0DC70AE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AEFE5-D1C0-4FA6-AE9D-6D5277E1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9D4F7-575C-4ECB-A153-3CDE8FB1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C4D12-F1D0-4A7F-BC32-F8F1EDB51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D1CD0-92A5-4119-8873-752F157E1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C8DBB-0687-4D59-9FB6-94B5BA774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2D5F2-8DD9-47B2-B8EE-7287961A2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451DC-87A0-4448-83C7-5151342F4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08BEF-5AB5-4CC5-B06C-C7886333D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3FB6-8D82-4C8A-AAB1-6C18B6420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F514E-1AE5-4DEE-9DEF-588935288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D69C2-D3A9-4A01-9718-60C729ED8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BE5A2-D3AB-4C7F-BD34-24EDE8AB1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5107B-644E-4173-9810-C1584781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92544-3316-445B-88E4-19D5ACFC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DAF38-5767-4503-BDAA-BF0089B8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C3024-2072-4641-A370-2AC364E7A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DB949-1E68-4270-932E-376D8FDB4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6C04E-C301-44A8-9886-F98515E63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75940-BC24-41AE-BB03-AE0822736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D01C-E885-46B8-8795-0E088DD49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84338-AB7C-4D1C-AC3C-76583F16A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736F7-31EA-499D-83D9-95E884D24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F60BE-2A5F-483E-BABF-5EE3E50F2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ACBDD-50A8-4E3E-AB91-FCBAC053E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7D09C-E31D-4CE7-BD4C-21820EFD6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02BDC-3273-4A3C-AFA4-899B184E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E3485-3ADA-46FC-94B9-8283B3AB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DE41D-E741-49ED-BB08-0BA64395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BD151-98D1-4204-A370-F17826C43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D3940-1019-40D7-A697-5ABD0F429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2DD5-A292-4BFD-B2C4-E523CE375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B9EEA-7F48-42F7-B193-067E4FA71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6D77-535A-4E3E-B5DA-DE6B6B7B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54EB-8302-4443-A349-969D0CB5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971B-EF1C-493C-AF39-9CDE35E7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17451-8E8F-447D-B163-76E7CD422465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2" descr="2"/>
          <p:cNvPicPr/>
          <p:nvPr/>
        </p:nvPicPr>
        <p:blipFill>
          <a:blip r:embed="rId3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Прямоугольник 9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6" name="Прямоугольник 9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Прямая соединительная линия 10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1"/>
          <p:cNvPicPr/>
          <p:nvPr/>
        </p:nvPicPr>
        <p:blipFill>
          <a:blip r:embed="rId4"/>
          <a:stretch/>
        </p:blipFill>
        <p:spPr>
          <a:xfrm>
            <a:off x="0" y="0"/>
            <a:ext cx="91789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AB4A5-F301-4986-AAD2-79B17F168821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2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Picture 2" descr="2"/>
          <p:cNvPicPr/>
          <p:nvPr/>
        </p:nvPicPr>
        <p:blipFill>
          <a:blip r:embed="rId3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9250E-2F14-4709-8342-428E6967C67A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9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10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FA651-8DB5-46D8-A64E-CFA2EAE10BB1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8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2" name="Picture 2" descr="2"/>
          <p:cNvPicPr/>
          <p:nvPr/>
        </p:nvPicPr>
        <p:blipFill>
          <a:blip r:embed="rId3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E9D32-684E-4E1C-91C6-1CBCAEDC4D45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go.mail.ru/redir?q=&#1082;&#1072;&#1088;&#1090;&#1080;&#1085;&#1082;&#1072;%20&#1089;&#1086;&#1083;&#1085;&#1077;&#1095;&#1085;&#1099;&#1093;%20&#1095;&#1072;&#1089;&#1086;&#1074;&amp;via_page=1&amp;type=sr&amp;redir=eJzLKCkpsNLXz0_PL8pP0cvNLCpJLU7N0ysq1U_KyU_XNzE2sDSzMDewNDbRD87PyUtNzsirzEzVTc5ILK7M1M1L1E1JTM5IZbiw68KGiw0Xmy7suLAXxFa42Hhh34XdQM7Wi-0X9l7svtiqAGRsAAtvYjA0sTAxsjS3MLVgqD8m5y52py6TTXeeE2905VQAcgNAzw" TargetMode="External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hyperlink" Target="http://go.mail.ru/redir?q=&#1082;&#1072;&#1088;&#1090;&#1080;&#1085;&#1082;&#1072;%20&#1089;&#1086;&#1083;&#1085;&#1077;&#1095;&#1085;&#1099;&#1093;%20&#1095;&#1072;&#1089;&#1086;&#1074;&amp;via_page=1&amp;type=sr&amp;redir=eJzLKCkpsNLXLy8v10tKTKrUKyrVT8rJTy_WL8gvLtE3srQwNbawNDTSNTUyMzW0MDTRZ7iw68KGiw0Xmy7suLAXxFa42Hhh34XdQM7Wi-0X9l7svtiqAGRsAAtvYjA0sTAxsjS3MLVgCF7ry_gk5qydtxpj8rfnzdUA9GY4oA" TargetMode="External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hyperlink" Target="http://go.mail.ru/redir?q=&#1082;&#1072;&#1088;&#1090;&#1080;&#1085;&#1082;&#1072;%20&#1087;&#1077;&#1089;&#1086;&#1095;&#1085;&#1099;&#1077;%20&#1095;&#1072;&#1089;&#1099;&amp;via_page=1&amp;type=sr&amp;redir=eJzLKCkpsNLXT8spLUgt0isq1S9JTNdXdTFQdXIDk6aqLoaqFoZgtiuYbQ5mu4DZThA1DBd2XdhwseFi04UdF_aC2AoX9l_YerHxwr6L7Rf2Xuy-sFUByNhwsfFiN4OhiYWJkaW5pbkFQ9ixmTmKzNWvFnokq3buPxQNAKZ5OEY" TargetMode="External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hyperlink" Target="http://go.mail.ru/redir?q=&#1082;&#1072;&#1088;&#1090;&#1080;&#1085;&#1082;&#1072;%20&#1089;&#1086;&#1074;&#1088;&#1077;&#1084;&#1077;&#1085;&#1085;&#1099;&#1077;%20&#1085;&#1072;&#1089;&#1090;&#1077;&#1085;&#1085;&#1099;&#1077;%20&#1095;&#1072;&#1089;&#1099;&amp;via_page=1&amp;type=sr&amp;redir=eJzLKCkpsNLXLyrVS8zJTK0oKEotLtZLzs_VL9cvz8jPSS1OzEnVzS9LzNEtLE0sKqnSLchJLC7JTNYtT8zJ0U3OyU_O1ssoyc1huLDrwoaLDRebLuy4sBfEVrjYeGHfhU0XGy5svbAHiPde2Hux-8JWBSBjw8VGoDqE0MV2sFA3g6GJhYmRpYWBpQFDxn_FSHZv1y_iX6bcylYy6gMAIE1T5Q" TargetMode="External"/><Relationship Id="rId3" Type="http://schemas.openxmlformats.org/officeDocument/2006/relationships/image" Target="../media/image39.jpeg"/><Relationship Id="rId4" Type="http://schemas.openxmlformats.org/officeDocument/2006/relationships/hyperlink" Target="http://go.mail.ru/redir?q=&#1082;&#1072;&#1088;&#1090;&#1080;&#1085;&#1082;&#1072;%20&#1089;&#1086;&#1074;&#1088;&#1077;&#1084;&#1077;&#1085;&#1085;&#1099;&#1077;%20&#1085;&#1072;&#1087;&#1086;&#1083;&#1100;&#1085;&#1099;&#1077;%20&#1095;&#1072;&#1089;&#1099;&amp;via_page=1&amp;type=sr&amp;redir=eJzLKCkpsNLXL8pMSsypTM7QKyrVNzIwNNE3MALS-nmJBfk5eZWpuskZicWVusWZeZkV-gwXdl3YcLHhYtOFHRf2gtgKFxsv7Luw6WLDha0X9gDx3gt7L3Zf2KoAZGy4sB8otftiD1ToYjtQa-PFbgZDEwsTI0sLQ3Mzhq-KERNcZr-8ufnP4luNTo1sAD2BS9M" TargetMode="External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go.mail.ru/redir?q=&#1082;&#1072;&#1088;&#1090;&#1080;&#1085;&#1082;&#1072;%20&#1079;&#1074;&#1086;&#1085;&#1103;&#1097;&#1077;&#1075;&#1086;%20&#1073;&#1091;&#1076;&#1080;&#1083;&#1100;&#1085;&#1080;&#1082;&#1072;&amp;via_page=1&amp;type=sr&amp;redir=eJzLKCkpsNLXz63UTUvMK0ksrtRLyUwsqtQrKtUvMLQ0NDQ2tDA31MsoyWW4sOvChosNF5su7LiwF8RWuLD9wqYL-y7svdh_sfPC1gubL-xTuLDxYvOFLUAVuy_2AFXtAKljMDSxMDGyNDcxsmCo_WGx6-Xf_Zr-QR9OmlZ_fgkAIYRCOQ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hyperlink" Target="http://go.mail.ru/redir?q=&#1082;&#1072;&#1088;&#1090;&#1080;&#1085;&#1082;&#1080;%20&#1089;&#1086;&#1074;&#1088;&#1077;&#1084;&#1077;&#1085;&#1085;&#1099;&#1077;%20%20&#1095;&#1072;&#1089;&#1099;&amp;via_page=1&amp;type=sr&amp;redir=eJzLKCkpsNLXT04sKslNzNMrKdMvLskvSkxP1c_MK0ktSi3Oy9fPTIk3NLE0NYjPScxLjy8qjS8oAkrGV6YW62WU5OYwXNh1YcPFhotNF3Zc2Atk71C42Hhh34VNFxsubL2wB4j3Xth7sfvCVgWFi-1AhY0XuxkMTSxMjCwtjMzNGUTU5r_gu22eqvo2vVXd5Hk9AIrpRF0" TargetMode="External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hyperlink" Target="http://go.mail.ru/redir?q=&#1082;&#1072;&#1088;&#1090;&#1080;&#1085;&#1082;&#1072;%20&#1082;&#1091;&#1088;&#1072;&#1085;&#1090;&#1086;&#1074;&amp;via_page=1&amp;type=sr&amp;redir=eJzLKCkpsNLXLy8v10vKzynOyK8syy8oyi_WKyrVLyxNLS7JzM8r1jc0sjQ1NTTSzU7Mzk_P1y1KrMpNLUrULS5ILC7OzkzVzS4tSswrqdTNLkrNzclK1Msoyc1huLDrwoaLDRebLuy4sBfEVriw62LzxYYLGy7sBQruu7CJwdDEwsTI0sLYwoIh9qrAxK_dXt_5VSvvmO8IWwMAzDZDlg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hyperlink" Target="https://mpwatch.ru/images/cms/data/raznoe140715/lowell_21504.jpg" TargetMode="External"/><Relationship Id="rId3" Type="http://schemas.openxmlformats.org/officeDocument/2006/relationships/image" Target="../media/image49.jpeg"/><Relationship Id="rId4" Type="http://schemas.openxmlformats.org/officeDocument/2006/relationships/hyperlink" Target="http://go.mail.ru/redir?q=&#1089;&#1080;&#1084;&#1074;&#1086;&#1083;&#1099;%20&#1101;&#1083;&#1077;&#1082;&#1090;&#1088;&#1086;&#1085;&#1085;&#1099;&#1093;%20&#1095;&#1072;&#1089;&#1086;&#1074;%20&#1082;&#1072;&#1088;&#1090;&#1080;&#1085;&#1082;&#1072;&amp;via_page=1&amp;type=sr&amp;redir=eJzLKCkpsNLXL8lPzigoykzKL9LLL0rXT04sSczJT9fPTU3MK47PT4vPzEvLL8pNLMnMz4tPySwuyEms1M8oys_Lz00tKdJPzslPzo5PzUnNLinKjy8ryS_St3f1cfV19QuxNVE1MmC42Hhhx4U9FzZd2Hdh98VuhYu9F3Zf2Hph18Wmiw1Aob0X9l7svtiqcLH9wgagyn0XNilc2AVkNlxsAmrbC2IzGJpYmBhZWpiaWTK4zdd-k8Zyxvono43Ofa_WQgAq_1zd" TargetMode="External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hyperlink" Target="http://go.mail.ru/redir?q=&#1082;&#1072;&#1088;&#1090;&#1080;&#1085;&#1082;&#1072;%20&#1095;&#1072;&#1089;&#1086;&#1074;&#1097;&#1080;&#1082;&#1072;&amp;via_page=1&amp;type=sr&amp;redir=eJzLKCkpsNLXLy8v10vOyU_O1gURekWl-pbmFkZGehkluTkMF3Zd2HCx4WLThR0X9oLYChfbgQKNF_Zd2HSxEygIFGIwNLEwMbK0MDMzYsiNmLd5p-xLuRur5l3MM2kJBwDYRy-H" TargetMode="External"/><Relationship Id="rId3" Type="http://schemas.openxmlformats.org/officeDocument/2006/relationships/image" Target="../media/image54.jpeg"/><Relationship Id="rId4" Type="http://schemas.openxmlformats.org/officeDocument/2006/relationships/hyperlink" Target="http://go.mail.ru/redir?q=&#1082;&#1072;&#1088;&#1090;&#1080;&#1085;&#1082;&#1072;%20&#1095;&#1072;&#1089;&#1086;&#1074;&#1097;&#1080;&#1082;&#1072;&amp;via_page=1&amp;type=sr&amp;redir=eJzLKCkpsNLXTywuKcrPyU_P1ysq1S_Oz8vLzNZ3zkgszi8rzgAyGS7surDhYsPFpgs7LuwFsRUutgMFGi_su7DpYidQECjEYGhiYWJkaWFmZsSwsMDT01Zn5dpXM1lnn1JwNgYApDwwhA" TargetMode="External"/><Relationship Id="rId5" Type="http://schemas.openxmlformats.org/officeDocument/2006/relationships/image" Target="../media/image55.jpeg"/><Relationship Id="rId6" Type="http://schemas.openxmlformats.org/officeDocument/2006/relationships/image" Target="../media/image56.jpeg"/><Relationship Id="rId7" Type="http://schemas.openxmlformats.org/officeDocument/2006/relationships/image" Target="../media/image57.jpe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go.mail.ru/redir?q=&#1082;&#1072;&#1088;&#1090;&#1080;&#1085;&#1082;&#1072;%20&#1082;&#1091;&#1088;&#1072;&#1085;&#1090;&#1086;&#1074;&amp;via_page=1&amp;type=sr&amp;redir=eJzLKCkpsNLXLy8v10vKzynOyK8syy8oyi_WKyrVLyxNLS7JzM8r1jc0sjQ1NTTSzU7Mzk_P1y1KrMpNLUrULS5ILC7OzkzVzS4tSswrqdTNLkrNzclK1Msoyc1huLDrwoaLDRebLuy4sBfEVriw62LzxYYLGy7sBQruu7CJwdDEwsTI0sLYwoIh9qrAxK_dXt_5VSvvmO8IWwMAzDZDlg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go.mail.ru/redir?q=&#1082;&#1072;&#1088;&#1090;&#1080;&#1085;&#1082;&#1072;%20&#1087;&#1077;&#1090;&#1091;&#1093;&#1072;&amp;via_page=1&amp;type=sr&amp;redir=eJzLKCkpKLbS1y8q1UspSk3MLS7JzE3VS87P1Vd1MVS1MASTRqouBqpOrmDSEYltBJZ1ArNNdcEcE5g0QpsumHKDqIJJAEljMGmqm5mbmJ5qZGJmZGpmZsxwYdeFDRcbLjZd2HFhL4itcGH_ha0Xmy42X2y9sIHB0MTCxMjS3NTcgqHOtStngh_Lq7yVzz47-ZldBQA7HEEN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go.mail.ru/redir?q=&#1082;&#1072;&#1088;&#1090;&#1080;&#1085;&#1082;&#1072;%20&#1087;&#1077;&#1074;&#1095;&#1080;&#1077;%20&#1087;&#1090;&#1080;&#1094;&#1099;%20&#1088;&#1086;&#1089;&#1089;&#1080;&#1080;&amp;via_page=1&amp;type=sr&amp;redir=eJzLKCkpsNLXN83OSSwu1stLLdHPzy4qrcpIzCotTs7IzNLNzSzSNdQFS-uHZaZU6haUZJYU6xsYWuoGpJYBlaRCRCp1g_KLizMz9TJKcnMYLuy6sOFiw8WmCzsu7AWxFS7sv7D1wqaL7UCBrUAOSOZi28VuhYsNF_ZdbLzYCBTfwWBoYmFiZGlubmDKsCXZwWRFxfe5F4Mu9M2USfEDAO9wTrk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go.mail.ru/redir?q=&#1082;&#1072;&#1088;&#1090;&#1080;&#1085;&#1082;&#1072;%20&#1086;&#1076;&#1091;&#1074;&#1072;&#1085;&#1095;&#1080;&#1082;&#1072;&amp;via_page=1&amp;type=sr&amp;redir=eJzLKCkpsNLXzy4tzixLzE7UKyrVT08tSCzJLNHPSU3OSM3LTNUtgDB0c_OLsvPL8ipzdYvzs_Nz9Rku7Lqw4WLDxaYLOy7sBbEVLuy7sOVi84VNFzZc2HuxHSgMFGQwNLEwMbI0N7c0YWh9feboZkGONI-lPzKvHVIuBAAMQzyT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ectangle 2" descr=""/>
          <p:cNvPicPr/>
          <p:nvPr/>
        </p:nvPicPr>
        <p:blipFill>
          <a:blip r:embed="rId1"/>
          <a:stretch/>
        </p:blipFill>
        <p:spPr>
          <a:xfrm>
            <a:off x="530280" y="1511280"/>
            <a:ext cx="7827840" cy="504828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533520" y="6854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МБОУ СОШ №1 СЕЛА НОВОСЫСОЕВКА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165240" y="433440"/>
            <a:ext cx="8454960" cy="11761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53352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Trebuchet MS"/>
              </a:rPr>
              <a:t>Более 250 лет назад знаменитый естествоиспытатель Карл Линней составил свои первые «Часы Флоры». На клумбе в городе Упсале росли цветы, венчики которых открывались в определенной последовательности с 3—5 часов утра до полуночи. Там росли всем знакомый одуванчик, лен, картофель, яркая сарана, скромная кисличка...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Picture 4" descr="cc[1]"/>
          <p:cNvPicPr/>
          <p:nvPr/>
        </p:nvPicPr>
        <p:blipFill>
          <a:blip r:embed="rId2"/>
          <a:stretch/>
        </p:blipFill>
        <p:spPr>
          <a:xfrm>
            <a:off x="293760" y="1295280"/>
            <a:ext cx="8427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Заголовок 1" descr=""/>
          <p:cNvPicPr/>
          <p:nvPr/>
        </p:nvPicPr>
        <p:blipFill>
          <a:blip r:embed="rId1"/>
          <a:stretch/>
        </p:blipFill>
        <p:spPr>
          <a:xfrm>
            <a:off x="244440" y="433440"/>
            <a:ext cx="8691480" cy="11761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380880" y="129492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амые первые часы на земле- солнечные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ни были гениально простыми: воткнутый в землю шест. Вокруг него нарисована шкала времени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ревние греки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начали их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спользовать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еще в 1459 году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о нашей эры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0" name="preview-image" descr="http://mtdata.ru/u20/photo9C1A/20267429735-0/big.jpe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95480" y="2514600"/>
            <a:ext cx="57913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Я у солнышка спросила –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Сколько времени сейчас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Солнце палку осветило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оказала! Вот так раз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Но потом я догадалась!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алочку воткнула в грунт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Круг вокруг нарисовала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Числа, циферки – все тут!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Тень от палочки мгновенно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оказала мне тот час!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Только помнить нужно – север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На 12 у нас!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3" name="preview-image" descr="http://cs33.babysfera.ru/7/8/2/0/52651814.298534248.jpe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0" y="1523880"/>
            <a:ext cx="41911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244440" y="-85680"/>
            <a:ext cx="7461360" cy="15541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 txBox="1"/>
          <p:nvPr/>
        </p:nvSpPr>
        <p:spPr>
          <a:xfrm>
            <a:off x="457200" y="20109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rebuchet MS"/>
              </a:rPr>
              <a:t>Андрей Усачёв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rebuchet MS"/>
              </a:rPr>
              <a:t>«Песочные часы»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Люблю часы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есочны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ускай они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еточные…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о радуют приятно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згляд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 время может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течь назад!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6" name="Picture 5" descr="11125[1]"/>
          <p:cNvPicPr/>
          <p:nvPr/>
        </p:nvPicPr>
        <p:blipFill>
          <a:blip r:embed="rId2"/>
          <a:stretch/>
        </p:blipFill>
        <p:spPr>
          <a:xfrm>
            <a:off x="4724280" y="1671480"/>
            <a:ext cx="3429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Заголовок 1" descr=""/>
          <p:cNvPicPr/>
          <p:nvPr/>
        </p:nvPicPr>
        <p:blipFill>
          <a:blip r:embed="rId1"/>
          <a:stretch/>
        </p:blipFill>
        <p:spPr>
          <a:xfrm>
            <a:off x="285840" y="450720"/>
            <a:ext cx="8486640" cy="10796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457200" y="12949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имвол греческого бога времени Кроноса, которого древние греки считали главным судьей и великим целителем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Песочные часы и история неразделимы. Вот уже больше двух тысячелетий часы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верно служат человечеству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Они по-прежнему остаются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незаменимым предметом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обихода человека.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Они находят применение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в медицине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психологии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9" name="preview-image" descr="http://fluper.ru/ffh/41/pesochnye_chasy_prev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14800" y="3048120"/>
            <a:ext cx="43815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Во 2-м и 1-м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тысячелетиях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до н.э. в Египте,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Китае, Индии и Греци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строили водяные часы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Из одного сосуда в другой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равномерно, по каплям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переливалась вода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Поплавок со стрелкой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опускался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или поднимался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2" name="Picture 8" descr="2[1]"/>
          <p:cNvPicPr/>
          <p:nvPr/>
        </p:nvPicPr>
        <p:blipFill>
          <a:blip r:embed="rId2"/>
          <a:stretch/>
        </p:blipFill>
        <p:spPr>
          <a:xfrm>
            <a:off x="4800600" y="1600200"/>
            <a:ext cx="4129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Заголовок 1" descr=""/>
          <p:cNvPicPr/>
          <p:nvPr/>
        </p:nvPicPr>
        <p:blipFill>
          <a:blip r:embed="rId1"/>
          <a:stretch/>
        </p:blipFill>
        <p:spPr>
          <a:xfrm>
            <a:off x="317520" y="658800"/>
            <a:ext cx="8454960" cy="11764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" descr="100px-Klepsidra"/>
          <p:cNvPicPr/>
          <p:nvPr/>
        </p:nvPicPr>
        <p:blipFill>
          <a:blip r:embed="rId2"/>
          <a:stretch/>
        </p:blipFill>
        <p:spPr>
          <a:xfrm>
            <a:off x="228600" y="1828800"/>
            <a:ext cx="4000680" cy="4800600"/>
          </a:xfrm>
          <a:prstGeom prst="rect">
            <a:avLst/>
          </a:prstGeom>
          <a:ln w="0">
            <a:noFill/>
          </a:ln>
        </p:spPr>
      </p:pic>
      <p:sp>
        <p:nvSpPr>
          <p:cNvPr id="265" name="Прямоугольник 4"/>
          <p:cNvSpPr/>
          <p:nvPr/>
        </p:nvSpPr>
        <p:spPr>
          <a:xfrm>
            <a:off x="4343400" y="205740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ервый будильник на земле был водяным, он  был и будильником и школьным звонком одновременно. Его изобретателем считают древнегреческого философа Платона, жившего за 400 лет до нашей эры. Этот прибор, придуманный Платоном для созыва своих учеников на заня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Заголовок 1" descr=""/>
          <p:cNvPicPr/>
          <p:nvPr/>
        </p:nvPicPr>
        <p:blipFill>
          <a:blip r:embed="rId1"/>
          <a:stretch/>
        </p:blipFill>
        <p:spPr>
          <a:xfrm>
            <a:off x="212760" y="450720"/>
            <a:ext cx="8480520" cy="7747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" descr="1271490_large"/>
          <p:cNvPicPr/>
          <p:nvPr/>
        </p:nvPicPr>
        <p:blipFill>
          <a:blip r:embed="rId2"/>
          <a:stretch/>
        </p:blipFill>
        <p:spPr>
          <a:xfrm>
            <a:off x="380880" y="1295280"/>
            <a:ext cx="3505320" cy="5429520"/>
          </a:xfrm>
          <a:prstGeom prst="rect">
            <a:avLst/>
          </a:prstGeom>
          <a:ln w="0">
            <a:noFill/>
          </a:ln>
        </p:spPr>
      </p:pic>
      <p:sp>
        <p:nvSpPr>
          <p:cNvPr id="268" name="Прямоугольник 4"/>
          <p:cNvSpPr/>
          <p:nvPr/>
        </p:nvSpPr>
        <p:spPr>
          <a:xfrm>
            <a:off x="4114800" y="1447920"/>
            <a:ext cx="426708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мимо солнечных и водяных часов, с начал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. появились и первые огневые - свечные часы. Эти очень простые часы в виде длинной тонкой свечи с нанесенной по ее длине шкалой, сравнительно удовлетворительно показывали время, а в ночные часы они еще и освещали жилищ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Заголовок 1" descr=""/>
          <p:cNvPicPr/>
          <p:nvPr/>
        </p:nvPicPr>
        <p:blipFill>
          <a:blip r:embed="rId1"/>
          <a:stretch/>
        </p:blipFill>
        <p:spPr>
          <a:xfrm>
            <a:off x="317520" y="585720"/>
            <a:ext cx="7461360" cy="11764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6" descr="karelka130big[1]"/>
          <p:cNvPicPr/>
          <p:nvPr/>
        </p:nvPicPr>
        <p:blipFill>
          <a:blip r:embed="rId2"/>
          <a:stretch/>
        </p:blipFill>
        <p:spPr>
          <a:xfrm>
            <a:off x="533520" y="1312920"/>
            <a:ext cx="3182760" cy="5164200"/>
          </a:xfrm>
          <a:prstGeom prst="rect">
            <a:avLst/>
          </a:prstGeom>
          <a:ln w="0">
            <a:noFill/>
          </a:ln>
        </p:spPr>
      </p:pic>
      <p:sp>
        <p:nvSpPr>
          <p:cNvPr id="271" name="Прямоугольник 6"/>
          <p:cNvSpPr/>
          <p:nvPr/>
        </p:nvSpPr>
        <p:spPr>
          <a:xfrm>
            <a:off x="4038480" y="1828800"/>
            <a:ext cx="457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1657 году голландский мастер Христиан Гюйгенс изобрел часы с маятником. Это стало возможным благодаря экспериментам и исследованиям, проводимым знаменитым математиком и астрономом Галилео Галилеем в 1580-м году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Заголовок 1" descr=""/>
          <p:cNvPicPr/>
          <p:nvPr/>
        </p:nvPicPr>
        <p:blipFill>
          <a:blip r:embed="rId1"/>
          <a:stretch/>
        </p:blipFill>
        <p:spPr>
          <a:xfrm>
            <a:off x="285840" y="530280"/>
            <a:ext cx="7669080" cy="11523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1. Часы, которые висят      2. Напольны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а стене, называются –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астенны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4" name="preview-image" descr="http://g02.a.alicdn.com/kf/HTB1BAAmIXXXXXbvXFXXq6xXFXXXK/Black-cat-font-b-wall-b-font-font-b-clock-b-font-modern-design-cat-s.jpg">
            <a:hlinkClick r:id="rId2"/>
          </p:cNvPr>
          <p:cNvPicPr/>
          <p:nvPr/>
        </p:nvPicPr>
        <p:blipFill>
          <a:blip r:embed="rId3"/>
          <a:srcRect l="21807" t="9239" r="16623" b="5776"/>
          <a:stretch/>
        </p:blipFill>
        <p:spPr>
          <a:xfrm>
            <a:off x="457200" y="3124080"/>
            <a:ext cx="3809880" cy="3200400"/>
          </a:xfrm>
          <a:prstGeom prst="rect">
            <a:avLst/>
          </a:prstGeom>
          <a:ln w="0">
            <a:noFill/>
          </a:ln>
        </p:spPr>
      </p:pic>
      <p:pic>
        <p:nvPicPr>
          <p:cNvPr id="275" name="preview-image" descr="http://go1.imgsmail.ru/imgpreview?key=4ddbcbcae8534c0f&amp;mb=imgdb_preview_1619">
            <a:hlinkClick r:id="rId4"/>
          </p:cNvPr>
          <p:cNvPicPr/>
          <p:nvPr/>
        </p:nvPicPr>
        <p:blipFill>
          <a:blip r:embed="rId5"/>
          <a:srcRect l="21259" t="-1682" r="0" b="0"/>
          <a:stretch/>
        </p:blipFill>
        <p:spPr>
          <a:xfrm>
            <a:off x="4648320" y="2133720"/>
            <a:ext cx="40384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244440" y="-8620200"/>
            <a:ext cx="8375760" cy="15106680"/>
          </a:xfrm>
          <a:prstGeom prst="rect">
            <a:avLst/>
          </a:prstGeom>
          <a:ln w="0">
            <a:noFill/>
          </a:ln>
        </p:spPr>
      </p:pic>
      <p:pic>
        <p:nvPicPr>
          <p:cNvPr id="227" name="preview-image" descr="http://pp.vk.me/c413728/v413728611/2dbf/Ru_k3jSj2qM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343400" y="1676520"/>
            <a:ext cx="4014720" cy="39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77" name="preview-image" descr="http://cartman.tv/img_215925.jpe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14600" y="1752480"/>
            <a:ext cx="42670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6" descr="moskva-karmannye_chasy_hromirovannye_i_pozolochennye_322228"/>
          <p:cNvPicPr/>
          <p:nvPr/>
        </p:nvPicPr>
        <p:blipFill>
          <a:blip r:embed="rId2"/>
          <a:stretch/>
        </p:blipFill>
        <p:spPr>
          <a:xfrm>
            <a:off x="457200" y="1523880"/>
            <a:ext cx="4038480" cy="4038840"/>
          </a:xfrm>
          <a:prstGeom prst="rect">
            <a:avLst/>
          </a:prstGeom>
          <a:ln w="0">
            <a:noFill/>
          </a:ln>
        </p:spPr>
      </p:pic>
      <p:sp>
        <p:nvSpPr>
          <p:cNvPr id="280" name="Прямоугольник 4"/>
          <p:cNvSpPr/>
          <p:nvPr/>
        </p:nvSpPr>
        <p:spPr>
          <a:xfrm>
            <a:off x="4876920" y="1523880"/>
            <a:ext cx="3581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арманные часы изобрели немного раньше, ч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вычные для нас часы с браслетом. Они появились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XVI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еке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. Такие часы носили на цепочке. Карманные часы бы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азные: круглые, в виде книги, креста, разных фигур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арманные часы являли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едметом роскоши и были атрибутом богатых люд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82" name="preview-image" descr="http://cdn01.ru/files/users/images/16/7a/167a222fc422b82a0153999c454a94d6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05120" y="1523880"/>
            <a:ext cx="57909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Заголовок 1" descr=""/>
          <p:cNvPicPr/>
          <p:nvPr/>
        </p:nvPicPr>
        <p:blipFill>
          <a:blip r:embed="rId1"/>
          <a:stretch/>
        </p:blipFill>
        <p:spPr>
          <a:xfrm>
            <a:off x="244440" y="506520"/>
            <a:ext cx="8448840" cy="11761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6" descr="58194951_1272119975_2171"/>
          <p:cNvPicPr/>
          <p:nvPr/>
        </p:nvPicPr>
        <p:blipFill>
          <a:blip r:embed="rId2"/>
          <a:stretch/>
        </p:blipFill>
        <p:spPr>
          <a:xfrm>
            <a:off x="380880" y="1295280"/>
            <a:ext cx="4496040" cy="4496040"/>
          </a:xfrm>
          <a:prstGeom prst="rect">
            <a:avLst/>
          </a:prstGeom>
          <a:ln w="0">
            <a:noFill/>
          </a:ln>
        </p:spPr>
      </p:pic>
      <p:sp>
        <p:nvSpPr>
          <p:cNvPr id="285" name="Прямоугольник 4"/>
          <p:cNvSpPr/>
          <p:nvPr/>
        </p:nvSpPr>
        <p:spPr>
          <a:xfrm>
            <a:off x="5029200" y="1447920"/>
            <a:ext cx="365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ервое упоминание о механических часах относится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 концу 6 столетия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 Современные механические часы были созданы нидерландским ученым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Христианом Гюйгенсом в 1657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5"/>
          <p:cNvSpPr/>
          <p:nvPr/>
        </p:nvSpPr>
        <p:spPr>
          <a:xfrm>
            <a:off x="4952880" y="4343400"/>
            <a:ext cx="3505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искусстве механические часы являются символом врем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6"/>
          <p:cNvSpPr/>
          <p:nvPr/>
        </p:nvSpPr>
        <p:spPr>
          <a:xfrm>
            <a:off x="5556240" y="3735360"/>
            <a:ext cx="228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d6ecee"/>
                </a:solidFill>
                <a:latin typeface="Arial"/>
              </a:rPr>
              <a:t>В искусстве ханические часы являются символом врем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Заголовок 1" descr=""/>
          <p:cNvPicPr/>
          <p:nvPr/>
        </p:nvPicPr>
        <p:blipFill>
          <a:blip r:embed="rId1"/>
          <a:stretch/>
        </p:blipFill>
        <p:spPr>
          <a:xfrm>
            <a:off x="853920" y="738360"/>
            <a:ext cx="7461360" cy="1176120"/>
          </a:xfrm>
          <a:prstGeom prst="rect">
            <a:avLst/>
          </a:prstGeom>
          <a:ln w="0">
            <a:noFill/>
          </a:ln>
        </p:spPr>
      </p:pic>
      <p:pic>
        <p:nvPicPr>
          <p:cNvPr id="289" name="Содержимое 3" descr="Lowell 21504">
            <a:hlinkClick r:id="rId2"/>
          </p:cNvPr>
          <p:cNvPicPr/>
          <p:nvPr/>
        </p:nvPicPr>
        <p:blipFill>
          <a:blip r:embed="rId3"/>
          <a:srcRect l="10006" t="13118" r="10006" b="14756"/>
          <a:stretch/>
        </p:blipFill>
        <p:spPr>
          <a:xfrm>
            <a:off x="380880" y="1981080"/>
            <a:ext cx="3886200" cy="3962520"/>
          </a:xfrm>
          <a:prstGeom prst="rect">
            <a:avLst/>
          </a:prstGeom>
          <a:ln w="0">
            <a:noFill/>
          </a:ln>
        </p:spPr>
      </p:pic>
      <p:pic>
        <p:nvPicPr>
          <p:cNvPr id="290" name="preview-image" descr="http://go1.imgsmail.ru/imgpreview?key=6662d6e89d23f044&amp;mb=imgdb_preview_45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495680" y="2286000"/>
            <a:ext cx="39625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Заголовок 1" descr=""/>
          <p:cNvPicPr/>
          <p:nvPr/>
        </p:nvPicPr>
        <p:blipFill>
          <a:blip r:embed="rId1"/>
          <a:stretch/>
        </p:blipFill>
        <p:spPr>
          <a:xfrm>
            <a:off x="244440" y="585720"/>
            <a:ext cx="8448840" cy="11764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5" descr="000038-13[1]"/>
          <p:cNvPicPr/>
          <p:nvPr/>
        </p:nvPicPr>
        <p:blipFill>
          <a:blip r:embed="rId2"/>
          <a:stretch/>
        </p:blipFill>
        <p:spPr>
          <a:xfrm>
            <a:off x="533520" y="1371600"/>
            <a:ext cx="3809880" cy="4976640"/>
          </a:xfrm>
          <a:prstGeom prst="rect">
            <a:avLst/>
          </a:prstGeom>
          <a:ln w="0">
            <a:noFill/>
          </a:ln>
        </p:spPr>
      </p:pic>
      <p:sp>
        <p:nvSpPr>
          <p:cNvPr id="293" name="Прямоугольник 4"/>
          <p:cNvSpPr/>
          <p:nvPr/>
        </p:nvSpPr>
        <p:spPr>
          <a:xfrm>
            <a:off x="4876920" y="1523880"/>
            <a:ext cx="38862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ейчас точность времени хранят атомные часы. Атомные часы имеют погрешность в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одну секунду за шесть миллионов лет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Заголовок 1" descr=""/>
          <p:cNvPicPr/>
          <p:nvPr/>
        </p:nvPicPr>
        <p:blipFill>
          <a:blip r:embed="rId1"/>
          <a:stretch/>
        </p:blipFill>
        <p:spPr>
          <a:xfrm>
            <a:off x="622440" y="506520"/>
            <a:ext cx="7461000" cy="1176120"/>
          </a:xfrm>
          <a:prstGeom prst="rect">
            <a:avLst/>
          </a:prstGeom>
          <a:ln w="0">
            <a:noFill/>
          </a:ln>
        </p:spPr>
      </p:pic>
      <p:pic>
        <p:nvPicPr>
          <p:cNvPr id="295" name="preview-image" descr="http://watches.ru/img/papers/chasovschik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520" y="1752480"/>
            <a:ext cx="3333600" cy="2219400"/>
          </a:xfrm>
          <a:prstGeom prst="rect">
            <a:avLst/>
          </a:prstGeom>
          <a:ln w="0">
            <a:noFill/>
          </a:ln>
        </p:spPr>
      </p:pic>
      <p:pic>
        <p:nvPicPr>
          <p:cNvPr id="296" name="preview-image" descr="http://astrologo.ru/imason/Chasovshik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419720" y="1752480"/>
            <a:ext cx="3479760" cy="2590920"/>
          </a:xfrm>
          <a:prstGeom prst="rect">
            <a:avLst/>
          </a:prstGeom>
          <a:ln w="0">
            <a:noFill/>
          </a:ln>
        </p:spPr>
      </p:pic>
      <p:pic>
        <p:nvPicPr>
          <p:cNvPr id="297" name="preview-image" descr="http://24gadget.ru/uploads/posts/2012-04/1334214054_clipboard01.jpg"/>
          <p:cNvPicPr/>
          <p:nvPr/>
        </p:nvPicPr>
        <p:blipFill>
          <a:blip r:embed="rId6"/>
          <a:stretch/>
        </p:blipFill>
        <p:spPr>
          <a:xfrm>
            <a:off x="533520" y="4114800"/>
            <a:ext cx="4190760" cy="2513160"/>
          </a:xfrm>
          <a:prstGeom prst="rect">
            <a:avLst/>
          </a:prstGeom>
          <a:ln w="0">
            <a:noFill/>
          </a:ln>
        </p:spPr>
      </p:pic>
      <p:pic>
        <p:nvPicPr>
          <p:cNvPr id="298" name="preview-image" descr="http://cartman.tv/img_104526.jpeg"/>
          <p:cNvPicPr/>
          <p:nvPr/>
        </p:nvPicPr>
        <p:blipFill>
          <a:blip r:embed="rId7"/>
          <a:stretch/>
        </p:blipFill>
        <p:spPr>
          <a:xfrm>
            <a:off x="5867280" y="4191120"/>
            <a:ext cx="28958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Заголовок 1" descr=""/>
          <p:cNvPicPr/>
          <p:nvPr/>
        </p:nvPicPr>
        <p:blipFill>
          <a:blip r:embed="rId1"/>
          <a:stretch/>
        </p:blipFill>
        <p:spPr>
          <a:xfrm>
            <a:off x="450720" y="-390600"/>
            <a:ext cx="8016840" cy="298764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 txBox="1"/>
          <p:nvPr/>
        </p:nvSpPr>
        <p:spPr>
          <a:xfrm>
            <a:off x="457200" y="159984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rebuchet MS"/>
              </a:rPr>
              <a:t>1.Анкетирование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Часы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Компьютер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Ноутбук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Термометр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1" name="Диаграмма 7" descr=""/>
          <p:cNvPicPr/>
          <p:nvPr/>
        </p:nvPicPr>
        <p:blipFill>
          <a:blip r:embed="rId2"/>
          <a:stretch/>
        </p:blipFill>
        <p:spPr>
          <a:xfrm>
            <a:off x="3429000" y="1981080"/>
            <a:ext cx="5181480" cy="38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Заголовок 1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2" descr="C:\Users\NP300v5as05\Pictures\i3.jpg"/>
          <p:cNvPicPr/>
          <p:nvPr/>
        </p:nvPicPr>
        <p:blipFill>
          <a:blip r:embed="rId2"/>
          <a:stretch/>
        </p:blipFill>
        <p:spPr>
          <a:xfrm>
            <a:off x="1076400" y="1523880"/>
            <a:ext cx="648180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Заголовок 1" descr=""/>
          <p:cNvPicPr/>
          <p:nvPr/>
        </p:nvPicPr>
        <p:blipFill>
          <a:blip r:embed="rId1"/>
          <a:stretch/>
        </p:blipFill>
        <p:spPr>
          <a:xfrm>
            <a:off x="165240" y="317520"/>
            <a:ext cx="7540560" cy="115092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Моя гипотеза полностью подтвердилась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1.Необходимость часов на сегодняшний день очевидна! Мы живём во  временном ритме, сверяя со временем каждый свой шаг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2.Привычный прибор «часы» имеют интересную историю создания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На стене висят часы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Но они не для красы –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Для того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чтоб время мерить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И часам должны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мы верить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0" name="preview-image" descr="http://cdn01.ru/files/users/images/16/7a/167a222fc422b82a0153999c454a94d6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8320" y="1905120"/>
            <a:ext cx="396216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66"/>
                </a:solidFill>
                <a:latin typeface="Trebuchet MS"/>
              </a:rPr>
              <a:t>Дорожи минутой каждого дня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66"/>
                </a:solidFill>
                <a:latin typeface="Trebuchet MS"/>
              </a:rPr>
              <a:t>Сегодня, постарайся ничего не забыть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66"/>
                </a:solidFill>
                <a:latin typeface="Trebuchet MS"/>
              </a:rPr>
              <a:t>Проживи этот день не зря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66"/>
                </a:solidFill>
                <a:latin typeface="Trebuchet MS"/>
              </a:rPr>
              <a:t>Ведь завтра может не быть.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66"/>
                </a:solidFill>
                <a:latin typeface="Trebuchet MS"/>
              </a:rPr>
              <a:t>Уходит сегодня во вчера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66"/>
                </a:solidFill>
                <a:latin typeface="Trebuchet MS"/>
              </a:rPr>
              <a:t>В бездне времени утопает все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66"/>
                </a:solidFill>
                <a:latin typeface="Trebuchet MS"/>
              </a:rPr>
              <a:t>Она поглощает дни навсегда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66"/>
                </a:solidFill>
                <a:latin typeface="Trebuchet MS"/>
              </a:rPr>
              <a:t>Береги, бегущее время сво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8" name="preview-image" descr="http://luxediamond.ru/wp-content/uploads/2015/01/karmannye-chasy-na-cepochke_2.jpg"/>
          <p:cNvPicPr/>
          <p:nvPr/>
        </p:nvPicPr>
        <p:blipFill>
          <a:blip r:embed="rId2"/>
          <a:stretch/>
        </p:blipFill>
        <p:spPr>
          <a:xfrm>
            <a:off x="6553080" y="2666880"/>
            <a:ext cx="22291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Заголовок 1" descr=""/>
          <p:cNvPicPr/>
          <p:nvPr/>
        </p:nvPicPr>
        <p:blipFill>
          <a:blip r:embed="rId1"/>
          <a:stretch/>
        </p:blipFill>
        <p:spPr>
          <a:xfrm>
            <a:off x="324000" y="109440"/>
            <a:ext cx="8648640" cy="1158840"/>
          </a:xfrm>
          <a:prstGeom prst="rect">
            <a:avLst/>
          </a:prstGeom>
          <a:ln w="0">
            <a:noFill/>
          </a:ln>
        </p:spPr>
      </p:pic>
      <p:pic>
        <p:nvPicPr>
          <p:cNvPr id="310" name="preview-image" descr="http://pp.vk.me/c413728/v413728611/2dbf/Ru_k3jSj2qM.jpg"/>
          <p:cNvPicPr/>
          <p:nvPr/>
        </p:nvPicPr>
        <p:blipFill>
          <a:blip r:embed="rId2"/>
          <a:stretch/>
        </p:blipFill>
        <p:spPr>
          <a:xfrm>
            <a:off x="1981080" y="1523880"/>
            <a:ext cx="462456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57200" y="1599840"/>
            <a:ext cx="830592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1. Собрать и систематизировать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материал по теме проекта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2. Подготовить презентацию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по теме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Изучить историю создания такого прибора, как часы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Осветить тему «многообразие видов прибора для счета времени»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Проверить свою гипотезу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66"/>
                </a:solidFill>
                <a:uFillTx/>
                <a:latin typeface="Trebuchet MS"/>
              </a:rPr>
              <a:t>ГИПОТЕЗА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«Я считаю в современном мире без часов не обойтись»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165240" y="317520"/>
            <a:ext cx="7540560" cy="11509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1. Поисковая работа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2. Историческая справка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3. Мини – исследование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4. Вывод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5. Эпилог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Заголовок 1" descr=""/>
          <p:cNvPicPr/>
          <p:nvPr/>
        </p:nvPicPr>
        <p:blipFill>
          <a:blip r:embed="rId1"/>
          <a:stretch/>
        </p:blipFill>
        <p:spPr>
          <a:xfrm>
            <a:off x="212760" y="450720"/>
            <a:ext cx="8858160" cy="13845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rebuchet MS"/>
              </a:rPr>
              <a:t>                                     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Trebuchet MS"/>
              </a:rPr>
              <a:t>Петух. 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е будильник и не мам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однимает утром рано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Будет Петя – петушок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амый звонкий  голосок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          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. Никитина                         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preview-image" descr="https://thumbs.dreamstime.com/z/%D0%BF%D0%B5%D1%82%D1%83%D1%85-2462566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1752480"/>
            <a:ext cx="46483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41" name="preview-image" descr="http://5klass.net/datas/okruzhajuschij-mir/Vidy-ptits/0019-019-Pevchie-ptitsy-Rossii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90720" y="1371600"/>
            <a:ext cx="70866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У реки - зелёный луг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дуванчики вокруг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осами умылись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Дружно приоткрылись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Как фонарики горят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ам с тобою говорят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«На часах ровно пять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Можете ещё поспать!»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4" name="preview-image" descr="http://doctorflora.ru/img/cliparts/oduvanchik_0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19720" y="1752480"/>
            <a:ext cx="41148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113-01-01T00:00:00Z</dcterms:created>
  <dc:creator/>
  <dc:description/>
  <cp:keywords/>
  <dc:language>en-US</dc:language>
  <cp:lastModifiedBy>NP300v5as05</cp:lastModifiedBy>
  <cp:lastPrinted>1899-12-30T00:00:00Z</cp:lastPrinted>
  <dcterms:modified xsi:type="dcterms:W3CDTF">2017-02-05T09:58:00Z</dcterms:modified>
  <cp:revision>50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  <property fmtid="{D5CDD505-2E9C-101B-9397-08002B2CF9AE}" pid="3" name="Version">
    <vt:r8>1</vt:r8>
  </property>
</Properties>
</file>